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4F1-1F97-4D12-848E-4E6D126D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A4A-083D-4D36-BFC0-1C00B458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584-973C-4662-8DE4-682DFFA5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F4E-1A66-4E5B-B915-EB3243A8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41C-EF45-413B-B30B-D663B139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1D4-D47E-46FC-AD64-BFA29BB5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E2A0-B65A-43AC-8E5A-ACF45FAF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6730-15C8-42B5-8C15-58BA9C2F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2884-C7A6-47FD-ABCB-0B3B8F35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365-3814-41BF-A423-34647A51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F46A-658F-4CA9-A187-8F87A70F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3669-ACF9-4A3F-9D71-47B3FEE6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7766-11CE-4D4F-A813-39DD6463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35C1-BA57-4919-BA78-919CB78A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EFBE-1BF4-451D-B38C-DFEB8269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A353-348C-42A5-9DBE-0CCA5868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59E4-7B5C-4E5A-AF7A-BB77FF85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27B4-1BB0-4E66-B036-0431CF0D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6D6F-A34D-4927-BC2D-7A254874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DF88-8B92-414E-8439-8ADED8C5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360-707E-49F6-BAAA-250C1A33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4EFB9-6C40-4A63-9AB8-81330FDC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84A7-385D-4D9A-AB2A-1EA8DC29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38F41-0829-41A3-8F67-9150ECAD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241C-D7D0-4B41-A746-67AD389E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B003-0132-4B20-9F12-972EA1C6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35C8-54F6-4D15-8EDB-88BD29E4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773F-A568-4DD1-87B5-CC2103C0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91877-E3BD-4012-96DD-03F41D30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0953-8A1F-48FC-B053-2D216E56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590D-B674-4FA6-97C0-B711EA35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00A-F9B7-4AC8-A07E-DDFD3FA6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3D4E-C7D1-4F45-B47E-5D3E2E88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4AEF7-B61F-4178-B110-2E78214F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7AB8D-93E1-4798-90E1-FAB00104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150D9-4C7B-4A19-8A37-C94B3BC7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0B17-BE02-4E79-B3C9-5F2EF860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3831D-CE0B-4348-94C3-5A51B777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293CF-1587-41FE-9492-77893BA4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96CB-67A7-431E-A9CA-0095A865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63E64-0D64-481E-909C-713FC3A6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6502-C064-4617-90E0-25B0A13C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B8D-7A12-41C8-84B9-1893FFA9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B46CC-9FA2-486D-B38A-B0DB6801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C60D-372C-487F-BBC8-B7BF6F9D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074B7-B1DD-4ED9-9125-8B78D6D2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7AF-D123-4149-A72B-715B500E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F94-9D6D-4426-8A35-5A82AE0C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A83ED89-B577-492E-976D-DE41A6AD49D1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BE0E7B8-06F6-431D-941D-3DF5BFEAEEC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83E580D-6FAE-46F3-9EBA-B6EBF5C8088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E8D040C-A52A-4F1D-9ABE-69CB3CFB071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1680" indent="-3016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i="1" lang="pl-PL" sz="3200" spc="-1" strike="noStrike">
                <a:solidFill>
                  <a:srgbClr val="374c81"/>
                </a:solidFill>
                <a:latin typeface="Century Gothic"/>
              </a:rPr>
              <a:t>Wyjaśnij skrót SAMPLE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 – (Symptoms) – Objawy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A – (Allergies) – Alergi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M – (Medicines) – Medykament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 – (Past medical history) – Przebyte chorob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L – (Lunch) – Ostatni posiłe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E – (Events preceding) – Okoliczności zdarzenia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